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1D1C7-A3AA-4AD9-8831-F2DBE90ABD3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5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DAE56-3A2C-4CA1-B3B7-BE520B7DB4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A1569-41ED-4E57-882F-7B9097E31DD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25B32-D08C-4224-9E26-86B364A90E1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BD239-D964-4AC2-B117-7872C15DA4F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FEEE7-5C23-4B04-AA58-CA16655217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95CA5-E899-4903-940D-4180D56C7E0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E4752-1CA4-487C-8321-A5DAEF19796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A053-3655-4D32-A2CF-C069370CCEC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28E62-85C7-4A6F-B28F-B5515EFF46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3BE1-B1F3-4D4B-9006-6ABBEEAC17D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CC58-E611-428E-903A-261A0FEA17E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EC957-F526-47CE-96DE-21CA3A43E7F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87E3B-8BCB-4B8B-8E25-FDC4CD3332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B6459-68E9-4237-986B-CC31451FA8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B2124-A1E1-4B17-9F04-0645BF82CA9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E85DF-91A5-4EE6-8566-6A3A74B676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163C3-1872-4A0D-B9C4-75B4CAC9A3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512A3-86DF-4966-BC65-D8D505AF56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1A61EB-16C0-4555-9C81-A627C459F4C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C920-ECF1-4BFA-AD1B-91477D217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8EF20-4320-4C0D-87BC-29995B89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320D79-8A7D-4046-BF1C-FC73BAAB5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51C31-3C4F-4996-BC1F-39CC8017F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216391-8A9A-4EC8-9DF4-ABCCE7DD5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B89E5C-91DC-48E0-9A24-B90F4DC65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9CBD6-3668-4318-86FA-33E62BB9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6D91DD-5721-44EB-B4ED-C2C9B2694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DBB9B5B-F08D-4ADE-8485-869563187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26CB04-736D-44D7-A67C-5E3439D92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2C261-C8B4-4105-85CB-6826324FF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CF77A7D-AF8B-4932-BA75-141C59A04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E8F-4E97-49E1-BB3F-98C73BACF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4B66C3-F4A3-4C16-9952-7ABB7E89F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C58E46-B773-45B3-87B1-BF417AF06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DBA74E-E02C-4A31-BA73-70A68B76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85D84E-4141-4B61-8E6C-BECB50258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AC5BE9-AB5A-4E3D-AB97-CC6BA4E7D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35F11D-2E54-4116-81A7-E354C7FA3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ABAF79-4816-4AEA-A754-F4710E71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EA540A-1B1A-46FF-8073-9493E41CC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95C433-8B40-4624-B839-48BD40826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0A99C49-7CD7-40DC-8BE9-F04A31FCA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8114-AE9A-4E90-8D75-D2749F68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1287F0-475C-48A9-9F10-90261648B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E33922-55C6-4FDC-99FD-EE748691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F3271-4AED-4139-B13A-D83AEB892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4DF9E2-6C9C-465C-B144-56C02644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9A5B6C-75D0-4E14-A5B0-FB06324C5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991E55C-FAD8-457A-8B16-00E4DA62A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F02A1F-B726-4928-A351-F4630B5B4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C4F9D1-5DF0-4935-90D7-D51C0A493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0ADB2C-0B20-432B-9A75-A121A585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5B5EB3-E71A-4576-B17C-4CB19F2A5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6B40-D1EF-4326-9267-797B4C917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E7F7E6-286B-4AA6-826E-4440E02B1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DBE6D-3B8B-4946-BB92-14CE61F6F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F5857CB-75F7-42AD-90D0-8EFF743F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254460-124A-4465-B5B8-72E0250E8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A67A8B7-0F25-4EAC-8688-C295466A7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7163C-E384-438F-A2C2-9234DB289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190FBC-C22F-4D2B-B4FD-DA32E5EB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ECD2D4-31C4-4A98-B11C-7FD6CD88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083773-A0D7-4EDE-A3AE-EEBEB966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C4ED9-ADEA-4004-BCB3-4C23D7FF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CE6E8-1DF9-4570-8F45-CA836A64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BBEFA2-EA78-4F35-ADBF-C71877012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8003D-CDA5-4EFC-8374-9C714219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7DEC65-698F-4255-9BC3-5BBD6F092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B1BCE9-D01F-405A-A09F-8F54DFBA5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1C79BC-EF03-4B3A-876A-489F903D0F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42713-AA36-4339-8381-058A64752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DAA6E-38DE-4C6C-BEEC-1711DBC5D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C0C89-A386-4DEE-BBD1-09338619C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D3F66-AA49-4B03-BA6B-E3725293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BDC2A-42B2-4B16-AC89-87A83AB24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0E84-4726-4FE0-B3B6-092B5DA0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DDC79-D270-40CB-867F-8C708F497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218D6-7E26-4A0F-ACC2-2D5B1977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D9721-83F7-49B3-8E3F-037311C4A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07ABA-87F2-4BEA-8B56-3160AFE21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DA507-0491-4EF1-8816-8D3D510C5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C38188-87D6-4699-A5F9-93BF949681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FD6BC0-51C1-4CB1-90EC-62EF13972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A39C1-B96B-4B43-8009-182010F9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D1BBE-9CE9-489A-95DC-6CE0C033E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E5564-35DA-4703-B4A6-0E90795B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2907-903A-47F9-BD13-0C8437AB9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1FC953-1C3D-41DB-9195-D30C53A3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598B95-EDB4-416C-90BF-5FF476CD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8C95A7-6CE0-49E4-9054-79736A58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CE43C9-61DE-45EB-938C-47ED191A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6B0255-1415-40A6-B9C1-A70BF029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23F4EA-E828-4699-BAE2-C3873A390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BA7370-AA83-4CF6-B4DE-0118B05BF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5A9D0-0AE7-4A27-AE06-71E4553A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E0EB7-7F39-4C6D-ACC0-996FC1D10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7047DC-A1E9-4376-87D5-FE041E74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339-C33F-434A-84B7-6DA63BE4E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BEEB56-6402-48D8-BD72-251FA1501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C0493-44DF-4062-BC48-F65F4B521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DDBA1C-AF60-49B6-BDC9-649254BEB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43EEE9-3399-407B-B795-FC607F4C3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31486-0B3B-40BC-A387-20E61919B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237DC-5283-4DFF-B11C-E044BDE7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4927F-3FE9-437F-8C13-B900BE48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16BFCE-524D-4996-886A-57243CF9AE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41FFC-57A3-4BFF-A4CA-6764CFB4B1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6FC799-13CC-41C6-8FAF-8749E768B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2E69-527C-46ED-9FC2-E6C5BBA9C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F4F520-C86B-4585-9990-8BE9D009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9AD7C0-A665-4CBA-8AC8-76B76F7F3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742578-4349-4BE1-877B-392B74651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EC3AE-C691-4B1D-970D-FE8F24704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0160C-3731-43C8-9A3C-1626E357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988F5B-5E68-4CCD-8EC0-13EBA545A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1666FE-1933-4EFF-93C1-953E7442D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4D22E-DFEF-4857-A13C-6CAD01874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ADC9AE-8FA0-46A1-AD0E-5A6286E4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D2FFBB-D8B4-458E-B27D-7932947FE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749A9-785E-483D-8CA0-2AFFCE4A7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E36BD-128C-4584-B8F4-3EF219B66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652AFC-94BE-4D53-83A1-8464481A9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B493E-16D0-412A-A1AF-5CD3DB1AA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32492F-8D76-4CA4-94DF-C057C5EBC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C99FAE-50FB-4326-93AD-E587172BF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FE2EB6-0E29-42BB-BB36-BC15B14E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1AFC06-4B3F-49A1-892B-F88E163C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213C5-85B4-4F33-93AA-B6A13E69A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242147-C9E0-42A0-97D7-C71392BF6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7803B4-A3CC-4AF3-9D4D-04440208B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06E2-1DD3-4818-B72C-448648E9C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310A3-797D-4E8A-A4E8-66682BD6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EFA84F-0210-4DE5-85B8-6FABC90E8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522AD-63A7-4147-913C-34893A990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3984CC-3633-4C6B-8C5F-3C1B821CD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111F17-CAEA-47EE-94AA-43A44F5E2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4CF42D-7D89-4C4A-B70D-32E97C9AD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63C7D-48EF-4673-8304-5DAB916FA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804E0-44B5-4C95-800B-6A2BA1D04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525847-FD3D-4A0A-A6A7-0F1EDD27D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1596E-D019-4266-9DBC-40EA63B7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CF28-A85C-4928-BAD2-AF29C13B1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9994CA-5E3F-471E-B41A-DC62CFE61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1311CA-7386-4AF0-B48A-AD9C8ECB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220BC5-7ADA-4EC4-B17A-A6A9B849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83CB93-6EA7-4EA9-A25E-10D328D71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11A160-73F3-49C5-8F5B-35BC3DED6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92FCEF-2123-45FE-8446-5C4D1151A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85A3F9-3736-4AB2-B597-1A1F4DDFE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82424-823B-484D-AB34-D37994714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C81403-A413-4C41-8881-850797CF7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677EDB-13AA-4CA8-A396-F48B1F4FD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F76D-FD8E-45AD-A78C-4EC346483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790653-A960-44AC-A2D4-7A0086C0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E07814-F227-4346-AE9D-76C8C264D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50D027-A0D0-4441-AFB6-240039B76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8F4B37-7B35-4607-BE18-B3890605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ACD4E5-D209-45AD-878B-6DFEBE6C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DAAE7C-28CE-4770-AE3A-CAF7131AF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87739F-B908-49EE-B412-AE9A95085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1A07FE-1D01-425B-BD75-3D34E18A9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DE3B78-A04B-46BC-98C3-E07938F0C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D81AFC-E3B3-405D-B0E4-2322FB5C6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dt" idx="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ftr" idx="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sldNum" idx="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EE271-38D0-4F25-B1B8-7B977138D17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C3020-A8AD-428C-8546-80EBA84ED047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79379-DCF7-4442-A002-E963BC4DCF3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E2A21-D009-45DF-AD90-5C84476A6002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5C2C1-0E97-4173-B96A-F58066C59C39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C17A-6FD9-40BE-9428-3CD6BB59B4F8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23932-D908-43F5-916D-39561F789CC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39D4-022F-472E-B8A5-5990523027D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3FA92-C35E-4C5F-8A9D-344EE00D4D94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97776-2095-4934-8CF4-9DB0BAF42635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CFB12-5E2F-4F0F-ADE4-B9617256B756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Shape 1058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stroke="0" w="43200" h="43200">
                <a:moveTo>
                  <a:pt x="0" y="30392"/>
                </a:moveTo>
                <a:lnTo>
                  <a:pt x="0" y="30392"/>
                </a:lnTo>
                <a:cubicBezTo>
                  <a:pt x="0" y="30392"/>
                  <a:pt x="30246" y="-13481"/>
                  <a:pt x="-22336" y="-30405"/>
                </a:cubicBezTo>
                <a:lnTo>
                  <a:pt x="-22336" y="0"/>
                </a:lnTo>
                <a:lnTo>
                  <a:pt x="0" y="0"/>
                </a:lnTo>
                <a:lnTo>
                  <a:pt x="0" y="30392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Shape 1059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30392"/>
                </a:moveTo>
                <a:lnTo>
                  <a:pt x="-22" y="30392"/>
                </a:lnTo>
                <a:cubicBezTo>
                  <a:pt x="-22" y="30392"/>
                  <a:pt x="30330" y="52055"/>
                  <a:pt x="43245" y="35131"/>
                </a:cubicBezTo>
              </a:path>
            </a:pathLst>
          </a:custGeom>
          <a:solidFill>
            <a:srgbClr val="ffffff"/>
          </a:solidFill>
          <a:ln w="75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hape 1060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977"/>
                </a:moveTo>
                <a:lnTo>
                  <a:pt x="-22" y="29977"/>
                </a:lnTo>
                <a:cubicBezTo>
                  <a:pt x="-22" y="29977"/>
                  <a:pt x="29238" y="51595"/>
                  <a:pt x="43239" y="32973"/>
                </a:cubicBezTo>
              </a:path>
            </a:pathLst>
          </a:custGeom>
          <a:solidFill>
            <a:srgbClr val="ffffff"/>
          </a:solidFill>
          <a:ln w="6840">
            <a:solidFill>
              <a:srgbClr val="ffffff">
                <a:alpha val="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Shape 1061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562"/>
                </a:moveTo>
                <a:lnTo>
                  <a:pt x="-22" y="29562"/>
                </a:lnTo>
                <a:cubicBezTo>
                  <a:pt x="-22" y="29562"/>
                  <a:pt x="28147" y="51135"/>
                  <a:pt x="43233" y="30816"/>
                </a:cubicBezTo>
              </a:path>
            </a:pathLst>
          </a:custGeom>
          <a:solidFill>
            <a:srgbClr val="ffffff"/>
          </a:solidFill>
          <a:ln w="6480">
            <a:solidFill>
              <a:srgbClr val="ffffff">
                <a:alpha val="77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Shape 1062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9147"/>
                </a:moveTo>
                <a:lnTo>
                  <a:pt x="-22" y="29147"/>
                </a:lnTo>
                <a:cubicBezTo>
                  <a:pt x="-22" y="29147"/>
                  <a:pt x="27056" y="50675"/>
                  <a:pt x="43228" y="28658"/>
                </a:cubicBezTo>
              </a:path>
            </a:pathLst>
          </a:custGeom>
          <a:solidFill>
            <a:srgbClr val="ffffff"/>
          </a:solidFill>
          <a:ln w="5760">
            <a:solidFill>
              <a:srgbClr val="ffffff">
                <a:alpha val="66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Shape 1063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733"/>
                </a:moveTo>
                <a:lnTo>
                  <a:pt x="-22" y="28733"/>
                </a:lnTo>
                <a:cubicBezTo>
                  <a:pt x="-22" y="28733"/>
                  <a:pt x="25965" y="50214"/>
                  <a:pt x="43222" y="26500"/>
                </a:cubicBezTo>
              </a:path>
            </a:pathLst>
          </a:custGeom>
          <a:solidFill>
            <a:srgbClr val="ffffff"/>
          </a:solidFill>
          <a:ln w="5040">
            <a:solidFill>
              <a:srgbClr val="ffffff">
                <a:alpha val="5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Shape 1064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8319"/>
                </a:moveTo>
                <a:lnTo>
                  <a:pt x="-22" y="28319"/>
                </a:lnTo>
                <a:cubicBezTo>
                  <a:pt x="-22" y="28319"/>
                  <a:pt x="24873" y="49754"/>
                  <a:pt x="43216" y="24342"/>
                </a:cubicBezTo>
              </a:path>
            </a:pathLst>
          </a:custGeom>
          <a:solidFill>
            <a:srgbClr val="ffffff"/>
          </a:solidFill>
          <a:ln w="4320">
            <a:solidFill>
              <a:srgbClr val="ffffff">
                <a:alpha val="44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Shape 1065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904"/>
                </a:moveTo>
                <a:lnTo>
                  <a:pt x="-22" y="27904"/>
                </a:lnTo>
                <a:cubicBezTo>
                  <a:pt x="-22" y="27904"/>
                  <a:pt x="23782" y="49294"/>
                  <a:pt x="43211" y="22185"/>
                </a:cubicBezTo>
              </a:path>
            </a:pathLst>
          </a:custGeom>
          <a:solidFill>
            <a:srgbClr val="ffffff"/>
          </a:solidFill>
          <a:ln w="3960">
            <a:solidFill>
              <a:srgbClr val="ffffff">
                <a:alpha val="32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Shape 1066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489"/>
                </a:moveTo>
                <a:lnTo>
                  <a:pt x="-22" y="27489"/>
                </a:lnTo>
                <a:cubicBezTo>
                  <a:pt x="-22" y="27489"/>
                  <a:pt x="22691" y="48834"/>
                  <a:pt x="43205" y="20027"/>
                </a:cubicBezTo>
              </a:path>
            </a:pathLst>
          </a:custGeom>
          <a:solidFill>
            <a:srgbClr val="ffffff"/>
          </a:solidFill>
          <a:ln w="3240">
            <a:solidFill>
              <a:srgbClr val="ffffff">
                <a:alpha val="21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Shape 1067"/>
          <p:cNvSpPr/>
          <p:nvPr/>
        </p:nvSpPr>
        <p:spPr>
          <a:xfrm>
            <a:off x="0" y="0"/>
            <a:ext cx="12192120" cy="6838920"/>
          </a:xfrm>
          <a:custGeom>
            <a:avLst/>
            <a:gdLst/>
            <a:ahLst/>
            <a:rect l="l" t="t" r="r" b="b"/>
            <a:pathLst>
              <a:path fill="none" w="43200" h="43200">
                <a:moveTo>
                  <a:pt x="-22" y="27075"/>
                </a:moveTo>
                <a:lnTo>
                  <a:pt x="-22" y="27075"/>
                </a:lnTo>
                <a:cubicBezTo>
                  <a:pt x="-22" y="27075"/>
                  <a:pt x="21600" y="48374"/>
                  <a:pt x="43200" y="17869"/>
                </a:cubicBezTo>
              </a:path>
            </a:pathLst>
          </a:custGeom>
          <a:solidFill>
            <a:srgbClr val="ffffff"/>
          </a:solidFill>
          <a:ln w="2520">
            <a:solidFill>
              <a:srgbClr val="ffffff">
                <a:alpha val="10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E12C-7150-44B0-936D-944BF552FC3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914040" y="2130120"/>
            <a:ext cx="1036332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ритериальное оценивание на уроках русского языка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subTitle"/>
          </p:nvPr>
        </p:nvSpPr>
        <p:spPr>
          <a:xfrm>
            <a:off x="1828440" y="38862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МАОУ Домодедовская СОШ №12 имени полного кавалера ордена Славы В.Д.Пресно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26"/>
                </a:solidFill>
                <a:latin typeface="Arial"/>
              </a:rPr>
              <a:t>Подготовила: Брыкина Н.Е., учитель русского языка и литератур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8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амостоятельная работа по русскому языку 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8 класс</a:t>
            </a:r>
            <a:br>
              <a:rPr sz="4000"/>
            </a:b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ема :Второстепенные члены предложения .Приложение»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 самостоятельной работы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Предложения с наличием приложений( каждому обучающемуся на отдельной карточке №1 распечатаны заран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Грамматическое задание к самостоятельной работе( на тех же карточках №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Критерии оценивания( на отдельных распечатанных карточках №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арточка №3( самопроверки или взаимопроверки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 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...тупись о (старец) море дай приют в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угре берёза (свечка) в лунных перьях с...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...рыгунья (стрекоза) лето красное проп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ет..ик (к...смонавт) Алексей Леонов первый человек вышедший в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 (историк) рука об руку ш..л с Пушкиным (художником) работая одновреме...о над историей Пугач..ва и над повестью Капитанская доч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 (царевич) с честью прош...л все испытания и одержал верх над сил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тра сидит на оз..ре любитель(рыболов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1( обратная сторона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рамматическое задание к самостоятельной работ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Спишите предложения, вставляя пропущенные буквы и раскрывая скоб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Расставьте знаки препин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Подчеркните грамматическую основу в предложения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Укажите синтаксическую роль приложени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2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ритерии для оценивания самостоятельной работ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838080" y="1825560"/>
          <a:ext cx="10515600" cy="5394240"/>
        </p:xfrm>
        <a:graphic>
          <a:graphicData uri="http://schemas.openxmlformats.org/drawingml/2006/table">
            <a:tbl>
              <a:tblPr/>
              <a:tblGrid>
                <a:gridCol w="2629080"/>
                <a:gridCol w="2628720"/>
                <a:gridCol w="2629080"/>
                <a:gridCol w="26287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5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4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3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Оценка «2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 правильных орфограмм 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-15 правильных орфограмм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-10 орфограмм -0,5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 или менее орфограмм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 правильно поставленных знаков препинания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правильно поставленных знака препинания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правильно поставленных знака препинания - 0, 5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или менее поставленных знаков препинания -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правильно подчёркнутых грамматических основ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-7 правильно подчёркнутых грамматических основ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-5 правильно подчёркнутых грамматических основ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или менее правильно подчёркнутых грамматических основ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 правильно подчёркнутых приложений -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балл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-9 правильно подчёркнутых приложений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-6 правильно подчёркнутых приложений - 1 балл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 или менее правильно подчёркнутых приложений - 0 балл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рточка №3. Предложения для взаимопроверки и самопроверки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сступись, о старец- море, дай приют волн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бугре берёза- свечка в лунных перьях сереб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прыгунья – стрекоза лето красное пропе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ётчик –космонавт Алексей Леонов – первый человек, вышедший в открытый космо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ушкин-историк рука об руку шёл с Пушкиным-художником, работая над историей Пугачёва и повестью «Капитанская до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ван-царевич с честью прошёл все испытания и одержал верх над силами з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 утра сидит на озере любитель – рыбо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Как осуществляется проверка по критериям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учающиеся получают Карточку №1 и Карточку №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полняют письменно самостоятельную работу и грамматическое задание к н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Через 25-28 минут обмениваются тетрадями, откладывают ручки. Берут ручки с зелёными стержня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олучают Карточки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Осуществляют проверку работ товарищ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ика проведения самостоятельной работ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От обратного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На экране выводится материал Карточки №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учающиеся читают внимательно , обращая внимание на знаки препинания, орфограммы, словарные слова в течение 2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Экран выклю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бучающиеся получают Карточки №1 и Карточки №2. Выполняют рабо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Через 25-28 минут обмениваются тетрадями . Также сменив ручки с синей пастой на ручки с зелёной паст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Получают Карточки №3. Проводят проверку по критериям.Оценивают раб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етод особенно эффективен в классе с детьми – инофон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Методика проведения самостоятельной работы 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«Я САМ...»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Карточка №3 выводится на экран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Обучающиеся в течение 2 минут изучают текст( +функциональная грамотность и вдумчивое чт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 .Экран выключает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Обучающиеся получают Карточки №1 и Карточки №2. Выполняют самостоятельную работу в течение 25-28 мину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олучают Карточку №3. Проверяют работу каждый СВОЮ. Оценивают по критерия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ой метод можно применить в классе с высоким уровнем сознательности  и чест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 чём преимущество КО перед другими приёмами оценивния?...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Проверка работ с использованием критериев способствует объективции оцени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 способствует вовлечение в работу всех обучаю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 позволяет формировать у обучающихся позитивное отношение к и повышению ответственности за результа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КО позволяет воспитывать обучающихся усидчивыми, прилежными и трудолюбив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Объект 1114388839" descr=""/>
          <p:cNvPicPr/>
          <p:nvPr/>
        </p:nvPicPr>
        <p:blipFill>
          <a:blip r:embed="rId1"/>
          <a:stretch/>
        </p:blipFill>
        <p:spPr>
          <a:xfrm>
            <a:off x="2228760" y="1825560"/>
            <a:ext cx="773424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Функции критериального оценивания в соответствии с современными ФГОС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буч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Контрол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Разви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Воспиты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Диагностическ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Мотивиру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 Оценивающа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адачи современного критериального оценивания в соответствии с современными ФГОС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Определение уровня подготовленности обучающегося на каждом этапе обуч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Анализ достижения учениками целей и результатов обучения в соответствии с учебной программ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Мониторинг индивидуального прогресса каждого обучающегося и коррекция индивидуальной траектории развития обучающего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Мотивация обучающихся на устранение пробелов в усвоении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Дифференцирование значимости оценок. Полученных за выполнение различных видов деятельнос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Мониторинг эффективности учебной программ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Обеспечение обратной связи между учителем, обучающимся и родителя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6" name="Объект 1922396450" descr=""/>
          <p:cNvPicPr/>
          <p:nvPr/>
        </p:nvPicPr>
        <p:blipFill>
          <a:blip r:embed="rId1"/>
          <a:stretch/>
        </p:blipFill>
        <p:spPr>
          <a:xfrm>
            <a:off x="1332000" y="365040"/>
            <a:ext cx="8905680" cy="600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Практическая значимость критериального оценивания( КО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КО способствует способствует снижению тревожности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КО способствует формированию у обучающихся навыков самоанализа и  самооцени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КО формирует чувство ответственности за результат своего тру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 КО даёт оценку только работе учен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 КО позволяет сравнивать работу обучающегося с эталоном правильно выполненной рабо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 КО позволяет обучающемуся знать алгоритм выставления оценки и самому оценить свою работу или работу сверст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Эффективность метода КО в условиях современной школы очевидна. Следует учитывать факторы: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Обучаются дети разных способностей и наклонност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Неоднородный национальный соста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Обучающиеся с особыми возможностями здоровь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Обучаются дети из национальных школ с неродным русским язык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Метод критериального оценивания можно применять на разных урока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На уроках русского языка оцениванию подлежат предметные результаты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Объект 1962858185" descr=""/>
          <p:cNvPicPr/>
          <p:nvPr/>
        </p:nvPicPr>
        <p:blipFill>
          <a:blip r:embed="rId1"/>
          <a:stretch/>
        </p:blipFill>
        <p:spPr>
          <a:xfrm>
            <a:off x="3375000" y="1825560"/>
            <a:ext cx="5442120" cy="4351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 является объектом оценивания?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Устный отве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Домашне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Тестово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4.Провероч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5.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6.Самостоятельн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7.Учебные работы(сообщения, презентации, схемы по темам урока и проче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8.Творческие работы (сочинения, проекты, научно-исследовательские работ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9.Выразительное чт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7040" indent="-2570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0.Друг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Как можно организовать работу на практике?...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Демонстрация на наглядном примере.</a:t>
            </a:r>
            <a:br>
              <a:rPr sz="4200"/>
            </a:b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Метод №1  « Три файла»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Объект 31314648" descr=""/>
          <p:cNvPicPr/>
          <p:nvPr/>
        </p:nvPicPr>
        <p:blipFill>
          <a:blip r:embed="rId1"/>
          <a:stretch/>
        </p:blipFill>
        <p:spPr>
          <a:xfrm>
            <a:off x="2286000" y="1859040"/>
            <a:ext cx="7620120" cy="42861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УМЦ</dc:creator>
  <dc:description/>
  <dc:language>en-US</dc:language>
  <cp:lastModifiedBy>УМЦ</cp:lastModifiedBy>
  <dcterms:modified xsi:type="dcterms:W3CDTF">2025-03-25T12:15:45Z</dcterms:modified>
  <cp:revision>8</cp:revision>
  <dc:subject/>
  <dc:title>Критериальное оценивание на уроках русского языка</dc:title>
</cp:coreProperties>
</file>